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653-A81B-442B-A204-47FFFB9B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C3A-A6AB-47E5-9B1C-121D745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0BD-9E87-411E-A104-1CCEA963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DCB-5585-49AA-B301-11A26AF3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6C1-DDBD-4C36-B746-FC46D0F2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7AD-83F7-435F-B702-74D32FAB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9AB-9DFC-4344-AE3B-D3CAA14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0004-22E4-4FF1-AC1E-BBA082F3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CBB-8F63-4E32-AF57-0DD2177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7046-F74C-483E-BB5E-360D81E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405-601A-45C0-8572-A2706C9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EBA-BA1F-4D7D-B372-BD42B52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C56-3002-4D18-BDCD-AB88F66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9CB-AB2A-47AA-BE4B-157C698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462C-93D7-4CDD-844B-C408322D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E10-F1A9-4D5F-AD6F-0B59716B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3169-780E-400D-BC6C-C3053CE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AE6-6150-45CA-A628-4232A50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36C-C337-4D7D-B174-F06CF5C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067-5B4E-4340-B3BA-E1D8492A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E39-3F90-4F33-A156-3D193B6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DD1-8695-45FF-80D2-56CA69E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694-671B-4288-A1B3-91D968E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32F-D6F8-4C08-A693-7673739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DF9-8A1C-4D89-ABEF-0DF4758DAB8B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648-D486-42CB-80AC-E0CE76A76D1D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00"/>
                </a:solidFill>
                <a:latin typeface="Times New Roman"/>
              </a:rPr>
              <a:t>SZTUKA CZASÓW RENESANSOWYCH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Lucida Handwriting"/>
              </a:rPr>
              <a:t>Oprac.   Katarzyna  Cichoc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Times New Roman"/>
              </a:rPr>
              <a:t>Włoscy malarze renesansu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cc"/>
                </a:solidFill>
                <a:latin typeface="Times New Roman"/>
              </a:rPr>
              <a:t>Sandro Botticell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cc"/>
                </a:solidFill>
                <a:latin typeface="Times New Roman"/>
              </a:rPr>
              <a:t>Leonardo da Vinc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cc"/>
                </a:solidFill>
                <a:latin typeface="Times New Roman"/>
              </a:rPr>
              <a:t>Michał Anioł Buonarott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cc"/>
                </a:solidFill>
                <a:latin typeface="Times New Roman"/>
              </a:rPr>
              <a:t>Rafael  Sant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cc"/>
                </a:solidFill>
                <a:latin typeface="Times New Roman"/>
              </a:rPr>
              <a:t>Tycj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Sandro Botticelli</a:t>
            </a: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  „Narodziny Wenus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sandro_botticelli_narodziny_wenus_1485%5B1%5D" descr=""/>
          <p:cNvPicPr/>
          <p:nvPr/>
        </p:nvPicPr>
        <p:blipFill>
          <a:blip r:embed="rId1"/>
          <a:stretch/>
        </p:blipFill>
        <p:spPr>
          <a:xfrm>
            <a:off x="160200" y="1066680"/>
            <a:ext cx="88315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Leonardo da Vinci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ffcc00"/>
                </a:solidFill>
                <a:latin typeface="Times New Roman"/>
              </a:rPr>
              <a:t>Ginewra”                                      „Autoportret”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ginevra%5B1%5D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64200" cy="4457880"/>
          </a:xfrm>
          <a:prstGeom prst="rect">
            <a:avLst/>
          </a:prstGeom>
          <a:ln w="0">
            <a:noFill/>
          </a:ln>
        </p:spPr>
      </p:pic>
      <p:pic>
        <p:nvPicPr>
          <p:cNvPr id="128" name="self%5B1%5D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9257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Dama z łasiczką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lasiczka%5B1%5D" descr=""/>
          <p:cNvPicPr/>
          <p:nvPr/>
        </p:nvPicPr>
        <p:blipFill>
          <a:blip r:embed="rId1"/>
          <a:stretch/>
        </p:blipFill>
        <p:spPr>
          <a:xfrm>
            <a:off x="3062160" y="1981080"/>
            <a:ext cx="301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3124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Mona Lisa” </a:t>
            </a:r>
            <a:br>
              <a:rPr sz="4400"/>
            </a:b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(Gioconda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mona%5B1%5D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581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leonardo%5B1%5D" descr=""/>
          <p:cNvPicPr/>
          <p:nvPr/>
        </p:nvPicPr>
        <p:blipFill>
          <a:blip r:embed="rId1"/>
          <a:stretch/>
        </p:blipFill>
        <p:spPr>
          <a:xfrm>
            <a:off x="-11160" y="109440"/>
            <a:ext cx="91663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cc00"/>
                </a:solidFill>
                <a:uFillTx/>
                <a:latin typeface="Times New Roman"/>
              </a:rPr>
              <a:t>Michał Anioł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Sklepienie Kaplicy 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Sykstyńskiej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kaplica%20sykstyńska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ersp2%5B1%5D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6861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„</a:t>
            </a: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Stworzenie Adama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stwadama%5B1%5D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61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9096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Rafael Santi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madonna%5B1%5D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3006720" cy="3962520"/>
          </a:xfrm>
          <a:prstGeom prst="rect">
            <a:avLst/>
          </a:prstGeom>
          <a:ln w="0">
            <a:noFill/>
          </a:ln>
        </p:spPr>
      </p:pic>
      <p:pic>
        <p:nvPicPr>
          <p:cNvPr id="147" name="ipraphae%5B1%5D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782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„</a:t>
            </a: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Szkoła ateńska”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szkola_atenska_760%5B1%5D" descr=""/>
          <p:cNvPicPr/>
          <p:nvPr/>
        </p:nvPicPr>
        <p:blipFill>
          <a:blip r:embed="rId1"/>
          <a:stretch/>
        </p:blipFill>
        <p:spPr>
          <a:xfrm>
            <a:off x="228600" y="1960560"/>
            <a:ext cx="86868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00"/>
                </a:solidFill>
                <a:latin typeface="Times New Roman"/>
              </a:rPr>
              <a:t>Renesans w sztuce i kulturze trwał </a:t>
            </a:r>
            <a:br>
              <a:rPr sz="3600"/>
            </a:br>
            <a:r>
              <a:rPr b="0" lang="pl-PL" sz="3600" spc="-1" strike="noStrike">
                <a:solidFill>
                  <a:srgbClr val="ffcc00"/>
                </a:solidFill>
                <a:latin typeface="Times New Roman"/>
              </a:rPr>
              <a:t>od XV w. do XVI w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Lucida Handwriting"/>
              </a:rPr>
              <a:t>   </a:t>
            </a: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Nazwa pochodzi z języka francuskiego „</a:t>
            </a: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renaissancer</a:t>
            </a: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”– znaczy odradzać się; w języku włoskim nazwa ta brzm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rinascita</a:t>
            </a: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("odrodzenie"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00"/>
                </a:solidFill>
                <a:latin typeface="Times New Roman"/>
              </a:rPr>
              <a:t>Tycjan</a:t>
            </a:r>
            <a:br>
              <a:rPr sz="3600"/>
            </a:br>
            <a:r>
              <a:rPr b="0" lang="pl-PL" sz="3600" spc="-1" strike="noStrike">
                <a:solidFill>
                  <a:srgbClr val="ffcc00"/>
                </a:solidFill>
                <a:latin typeface="Times New Roman"/>
              </a:rPr>
              <a:t>„Rodzina święta”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Tycjan%20rodzina%20świeta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981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Rzeźb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Donatello</a:t>
            </a:r>
            <a:br>
              <a:rPr sz="3200"/>
            </a:b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„Dawid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2david_donatello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1793880" cy="4190760"/>
          </a:xfrm>
          <a:prstGeom prst="rect">
            <a:avLst/>
          </a:prstGeom>
          <a:ln w="0">
            <a:noFill/>
          </a:ln>
        </p:spPr>
      </p:pic>
      <p:pic>
        <p:nvPicPr>
          <p:cNvPr id="157" name="1david_donatello" descr=""/>
          <p:cNvPicPr/>
          <p:nvPr/>
        </p:nvPicPr>
        <p:blipFill>
          <a:blip r:embed="rId2"/>
          <a:stretch/>
        </p:blipFill>
        <p:spPr>
          <a:xfrm>
            <a:off x="5486400" y="0"/>
            <a:ext cx="285768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Michał Anioł</a:t>
            </a:r>
            <a:br>
              <a:rPr sz="2400"/>
            </a:b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        „Mojżesz”</a:t>
            </a:r>
            <a:r>
              <a:rPr b="0" lang="pl-PL" sz="4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„Dawid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italy020%5B1%5D" descr=""/>
          <p:cNvPicPr/>
          <p:nvPr/>
        </p:nvPicPr>
        <p:blipFill>
          <a:blip r:embed="rId1"/>
          <a:stretch/>
        </p:blipFill>
        <p:spPr>
          <a:xfrm>
            <a:off x="4854600" y="457200"/>
            <a:ext cx="3889440" cy="6308640"/>
          </a:xfrm>
          <a:prstGeom prst="rect">
            <a:avLst/>
          </a:prstGeom>
          <a:ln w="0">
            <a:noFill/>
          </a:ln>
        </p:spPr>
      </p:pic>
      <p:pic>
        <p:nvPicPr>
          <p:cNvPr id="161" name="pes15%5B1%5D" descr=""/>
          <p:cNvPicPr/>
          <p:nvPr/>
        </p:nvPicPr>
        <p:blipFill>
          <a:blip r:embed="rId2"/>
          <a:stretch/>
        </p:blipFill>
        <p:spPr>
          <a:xfrm>
            <a:off x="784080" y="1752480"/>
            <a:ext cx="3567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Pi</a:t>
            </a:r>
            <a:r>
              <a:rPr b="1" lang="pl-PL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é</a:t>
            </a: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t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Image16%5B1%5D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562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00800" y="609480"/>
            <a:ext cx="2362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Leonardo</a:t>
            </a:r>
            <a:br>
              <a:rPr sz="3200"/>
            </a:b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da Vinci</a:t>
            </a:r>
            <a:br>
              <a:rPr sz="3200"/>
            </a:b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„Vitruvian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vitruvian%5B1%5D" descr=""/>
          <p:cNvPicPr/>
          <p:nvPr/>
        </p:nvPicPr>
        <p:blipFill>
          <a:blip r:embed="rId1"/>
          <a:stretch/>
        </p:blipFill>
        <p:spPr>
          <a:xfrm>
            <a:off x="304920" y="320760"/>
            <a:ext cx="56293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artillery%5B1%5D" descr=""/>
          <p:cNvPicPr/>
          <p:nvPr/>
        </p:nvPicPr>
        <p:blipFill>
          <a:blip r:embed="rId1"/>
          <a:stretch/>
        </p:blipFill>
        <p:spPr>
          <a:xfrm>
            <a:off x="0" y="380880"/>
            <a:ext cx="4992840" cy="6019920"/>
          </a:xfrm>
          <a:prstGeom prst="rect">
            <a:avLst/>
          </a:prstGeom>
          <a:ln w="0">
            <a:noFill/>
          </a:ln>
        </p:spPr>
      </p:pic>
      <p:pic>
        <p:nvPicPr>
          <p:cNvPr id="170" name="vinci-11" descr=""/>
          <p:cNvPicPr/>
          <p:nvPr/>
        </p:nvPicPr>
        <p:blipFill>
          <a:blip r:embed="rId2"/>
          <a:stretch/>
        </p:blipFill>
        <p:spPr>
          <a:xfrm>
            <a:off x="5006880" y="380880"/>
            <a:ext cx="41371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1" descr="Drawing of Leonardo da Vincis Helical Air Screw"/>
          <p:cNvPicPr/>
          <p:nvPr/>
        </p:nvPicPr>
        <p:blipFill>
          <a:blip r:embed="rId1"/>
          <a:stretch/>
        </p:blipFill>
        <p:spPr>
          <a:xfrm>
            <a:off x="6477120" y="838080"/>
            <a:ext cx="2286000" cy="1725840"/>
          </a:xfrm>
          <a:prstGeom prst="rect">
            <a:avLst/>
          </a:prstGeom>
          <a:ln w="0">
            <a:noFill/>
          </a:ln>
        </p:spPr>
      </p:pic>
      <p:pic>
        <p:nvPicPr>
          <p:cNvPr id="173" name="leonardo" descr="da Vinci sketch"/>
          <p:cNvPicPr/>
          <p:nvPr/>
        </p:nvPicPr>
        <p:blipFill>
          <a:blip r:embed="rId2"/>
          <a:stretch/>
        </p:blipFill>
        <p:spPr>
          <a:xfrm>
            <a:off x="304920" y="3581280"/>
            <a:ext cx="2857320" cy="26863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3627360" y="1959120"/>
            <a:ext cx="1428840" cy="2941560"/>
            <a:chOff x="3627360" y="1959120"/>
            <a:chExt cx="1428840" cy="2941560"/>
          </a:xfrm>
        </p:grpSpPr>
        <p:sp>
          <p:nvSpPr>
            <p:cNvPr id="175" name=""/>
            <p:cNvSpPr/>
            <p:nvPr/>
          </p:nvSpPr>
          <p:spPr>
            <a:xfrm>
              <a:off x="3627360" y="1959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27360" y="1959120"/>
              <a:ext cx="1428840" cy="29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16300" spc="-1" strike="noStrike">
                  <a:solidFill>
                    <a:srgbClr val="ffffcc"/>
                  </a:solidFill>
                  <a:latin typeface="Arial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pic>
        <p:nvPicPr>
          <p:cNvPr id="177" name="parachute" descr="da Vinci's parachute"/>
          <p:cNvPicPr/>
          <p:nvPr/>
        </p:nvPicPr>
        <p:blipFill>
          <a:blip r:embed="rId3"/>
          <a:stretch/>
        </p:blipFill>
        <p:spPr>
          <a:xfrm>
            <a:off x="838080" y="304920"/>
            <a:ext cx="1714680" cy="2593800"/>
          </a:xfrm>
          <a:prstGeom prst="rect">
            <a:avLst/>
          </a:prstGeom>
          <a:ln w="0">
            <a:noFill/>
          </a:ln>
        </p:spPr>
      </p:pic>
      <p:pic>
        <p:nvPicPr>
          <p:cNvPr id="178" name="struttura_ala" descr=""/>
          <p:cNvPicPr/>
          <p:nvPr/>
        </p:nvPicPr>
        <p:blipFill>
          <a:blip r:embed="rId4"/>
          <a:stretch/>
        </p:blipFill>
        <p:spPr>
          <a:xfrm>
            <a:off x="3657600" y="3200400"/>
            <a:ext cx="5143680" cy="336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27240" y="2492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davinci4" descr=""/>
          <p:cNvPicPr/>
          <p:nvPr/>
        </p:nvPicPr>
        <p:blipFill>
          <a:blip r:embed="rId5"/>
          <a:stretch/>
        </p:blipFill>
        <p:spPr>
          <a:xfrm>
            <a:off x="3276720" y="762120"/>
            <a:ext cx="28573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Times New Roman"/>
              </a:rPr>
              <a:t>Epokę tę charakteryzuje:</a:t>
            </a:r>
            <a:br>
              <a:rPr sz="3200"/>
            </a:b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fascynacja antykiem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odrodzenie nauki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humanizm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zeświecczenie życia społecznego 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indywidualizm 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&gt;  docenienie roli artysty</a:t>
            </a:r>
            <a:br>
              <a:rPr sz="2800"/>
            </a:b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    w kształtowaniu kultury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Lucida Handwriting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Times New Roman"/>
              </a:rPr>
              <a:t>Humanizam </a:t>
            </a:r>
            <a:br>
              <a:rPr sz="2800"/>
            </a:br>
            <a:r>
              <a:rPr b="0" lang="pl-PL" sz="2800" spc="-1" strike="noStrike">
                <a:solidFill>
                  <a:srgbClr val="ffcc00"/>
                </a:solidFill>
                <a:latin typeface="Times New Roman"/>
              </a:rPr>
              <a:t>to postawa intelektualna i moralna wyrażająca się zainteresowaniem sprawami człowieka, poszanowaniem jego godności i wolności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Times New Roman"/>
              </a:rPr>
              <a:t>Hasłem humanizmu był aforyzm Terencjusz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cc"/>
                </a:solidFill>
                <a:latin typeface="Lucida Handwriting"/>
              </a:rPr>
              <a:t>„</a:t>
            </a:r>
            <a:r>
              <a:rPr b="1" i="1" lang="pl-PL" sz="2800" spc="-1" strike="noStrike">
                <a:solidFill>
                  <a:srgbClr val="ffffcc"/>
                </a:solidFill>
                <a:latin typeface="Lucida Handwriting"/>
              </a:rPr>
              <a:t>Jestem człowiekiem i nic co ludzkie nie jest mi obce"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Lucida Handwriting"/>
              </a:rPr>
              <a:t>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enesans narodził się w XV w. we Florencji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790960" y="137160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 poszukiwaniu piękna, praw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i wartości obiektywnej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 pomocy intelektu nawiązywa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do tradycji starożytnych Grekó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i Rzymi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mapa2%20Włoch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Duże znaczenie miało powstanie mecenatu mieszczańskiego oraz zmiana społecznej pozycji artystów.  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ffcc00"/>
                </a:solidFill>
                <a:latin typeface="Times New Roman"/>
              </a:rPr>
              <a:t>Niektórzy z nich z rzemieślników cechowych stali się  samodzielnymi, wszechstronnymi twórcami. 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W architekturze zaczęły</a:t>
            </a:r>
            <a:br>
              <a:rPr sz="2400"/>
            </a:b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 pojawiać się nowe, </a:t>
            </a:r>
            <a:br>
              <a:rPr sz="2400"/>
            </a:b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charakterystyczne elementy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budowle kopułow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kolumn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belk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łuki tryumfal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arka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ornamenty grecko-rzymsk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Dzieło architekta Donato Bramant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bramante-01x%5B1%5D" descr=""/>
          <p:cNvPicPr/>
          <p:nvPr/>
        </p:nvPicPr>
        <p:blipFill>
          <a:blip r:embed="rId1"/>
          <a:stretch/>
        </p:blipFill>
        <p:spPr>
          <a:xfrm>
            <a:off x="4572000" y="396720"/>
            <a:ext cx="434340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Bazylika Św. Piotra, kopuła zaprojektowana przez Michała Anioła (1547)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14285-1144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47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Niezwykle bujnie i bogato rozwinęło się malarstwo.</a:t>
            </a:r>
            <a:br>
              <a:rPr sz="2400"/>
            </a:b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Wprowadzono do niego nowe techniki, tematy i kolory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perspektyw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obserwacja i rejestracja natu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portrety w półprofila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tematy religijne i mitologiczn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pejzaże dające wrażenie przestrze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czyste, nasycone światłem barw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malowanie nie tylko na desce, ale już na płótn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Times New Roman"/>
              </a:rPr>
              <a:t>upowszechnienie fresk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4:32:20Z</dcterms:created>
  <dc:creator>CICHOCKI</dc:creator>
  <dc:description/>
  <dc:language>en-US</dc:language>
  <cp:lastModifiedBy>Cichocki</cp:lastModifiedBy>
  <dcterms:modified xsi:type="dcterms:W3CDTF">2004-10-17T20:04:18Z</dcterms:modified>
  <cp:revision>11</cp:revision>
  <dc:subject/>
  <dc:title>SZTUKA CZASÓW RENESANSOWYCH</dc:title>
</cp:coreProperties>
</file>